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1448-1853-4DE1-8C11-5ABBB098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0200" y="461880"/>
            <a:ext cx="8502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0200" y="1515960"/>
            <a:ext cx="850284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" y="3785760"/>
            <a:ext cx="850284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515D-283D-4A41-8F82-B259BB02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0200" y="461880"/>
            <a:ext cx="8502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0200" y="1515960"/>
            <a:ext cx="414936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7280" y="1515960"/>
            <a:ext cx="414936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0200" y="3785760"/>
            <a:ext cx="414936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7280" y="3785760"/>
            <a:ext cx="414936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5193-61C2-4948-A4BF-81BB1EF6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20200" y="461880"/>
            <a:ext cx="8502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20200" y="1515960"/>
            <a:ext cx="273780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5160" y="1515960"/>
            <a:ext cx="273780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0480" y="1515960"/>
            <a:ext cx="273780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0200" y="3785760"/>
            <a:ext cx="273780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5160" y="3785760"/>
            <a:ext cx="273780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0480" y="3785760"/>
            <a:ext cx="273780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713B-CEBA-4915-AAB0-23DF0EF9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0200" y="461880"/>
            <a:ext cx="8502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20200" y="1515960"/>
            <a:ext cx="850284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112-DE38-4327-8B19-CE25E6E0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0200" y="461880"/>
            <a:ext cx="8502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0200" y="1515960"/>
            <a:ext cx="850284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BBCF-AC39-4902-8FFE-0E94CD36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0200" y="461880"/>
            <a:ext cx="8502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20200" y="1515960"/>
            <a:ext cx="414936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7280" y="1515960"/>
            <a:ext cx="414936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632B-A0DE-4617-932C-C6A02DEF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0200" y="461880"/>
            <a:ext cx="8502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76D8-C571-4C72-9504-70B463A1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20200" y="461880"/>
            <a:ext cx="85028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11E1-319D-47E2-8788-600597E0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0200" y="461880"/>
            <a:ext cx="8502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20200" y="1515960"/>
            <a:ext cx="414936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7280" y="1515960"/>
            <a:ext cx="414936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20200" y="3785760"/>
            <a:ext cx="414936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EFF6-DE4D-48A9-A658-BF01633C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20200" y="461880"/>
            <a:ext cx="8502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20200" y="1515960"/>
            <a:ext cx="414936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7280" y="1515960"/>
            <a:ext cx="414936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7280" y="3785760"/>
            <a:ext cx="414936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A580-8D59-4218-AF56-7528B809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0200" y="461880"/>
            <a:ext cx="8502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20200" y="1515960"/>
            <a:ext cx="414936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7280" y="1515960"/>
            <a:ext cx="414936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" y="3785760"/>
            <a:ext cx="850284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404-4705-4F7E-A750-3522AEE5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0200" y="461880"/>
            <a:ext cx="8502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0200" y="1515960"/>
            <a:ext cx="850284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20560" y="5996160"/>
            <a:ext cx="225432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8000" y="5996160"/>
            <a:ext cx="30672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78600" y="5996160"/>
            <a:ext cx="225432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5B455C8E-F562-4F1D-975B-2BAB32AFD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epg.org/classes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0428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Knight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2971800"/>
            <a:ext cx="85042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y: Chloe Hamlin, Sam Webster, and Riley Sen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97440" y="3195720"/>
            <a:ext cx="14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0" y="1600200"/>
            <a:ext cx="50292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9360" y="456840"/>
            <a:ext cx="85042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YSICAL DESCRIPTION OF A KNIGHT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0200" y="1515960"/>
            <a:ext cx="414972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He wore a fustian tunic stained and dark/ With smudges where his armor had left a mark (lines 77-780);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22960" y="1600200"/>
            <a:ext cx="313524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042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YSICAL CHARATERISTICS OF A KNIGH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1825560"/>
            <a:ext cx="414972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th, honor, generous, courtesy, and nobility. He has just returned home from service and he joined their ranks to do his pilgrimage. Chaucer describes him as "a true, a perfect-gentle knight (line 74).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657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0200" y="461520"/>
            <a:ext cx="85042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ATE!!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1515960"/>
            <a:ext cx="37558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knight was a part of the Nobility/Second estate. These people are "exempt from taxes on the theory that they serve the state by offering the king their lives in military servi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1780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0200" y="461520"/>
            <a:ext cx="85042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3440" y="1832040"/>
            <a:ext cx="81169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lepg.org/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Boo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3:37:03Z</dcterms:created>
  <dc:creator>PCSC</dc:creator>
  <dc:description>General introduction of a new product taking customer wishes into account</dc:description>
  <dc:language>en-US</dc:language>
  <cp:lastModifiedBy/>
  <cp:revision>1</cp:revision>
  <dc:subject/>
  <dc:title>Introducing a New Product</dc:title>
</cp:coreProperties>
</file>